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CF0-F499-4002-B00A-68BEEAF4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D698-A73C-4F7F-9F81-D08DB022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2F410-5797-4391-83D8-58535721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E7D12-7B23-4661-9270-08240C22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20E4B-0236-44A2-933C-6C52FC4B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7B90C-5009-4CC2-93D3-FD160276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FCB86-A2C1-43F1-B8E7-DC4B32A7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53ACE-5B8C-401F-91F6-8BA81EF1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BA19B-F39C-45AB-9386-AD89E485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D2E36-F5D9-44D7-B567-2E53FA54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F2649-F00C-4D91-9907-099DBD09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938A-4608-4B24-866A-3E4A3328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5CD9-333F-45D3-8F6E-47C9A3FE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8BAF-C587-47EA-A9EC-E3290D23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1604-5BE2-4824-8D27-D206AD1D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67EF-AE24-4350-9B40-1BF5840A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81F2-2CF0-4FEE-BF6C-9E108BD1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3D16-647C-4384-A0E1-F60AD37A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DAF9-6B56-4B08-B995-43ACD76F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1590-A45F-4D84-B121-3F27A076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CC22-4180-402B-9752-370BE921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9ED3-4A1D-4BFF-80D7-5332A10B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4C2B-A8EC-4FFE-80EE-3A3B6C45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6474-A013-4C85-B69D-3E36F3C4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BE29-A690-4A99-AF76-A0598226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6BE2-5ADD-4E0D-9BEC-5E5740FA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24CF7-E3A6-4D62-962C-3C479769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145B4-6603-4132-9F18-E7AAEA51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9A1A4-908C-4878-8D3D-7A52A3EA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333F8-100A-4D8C-9F36-9A9677CA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1B236-5D5F-4141-AEAD-4FD263E5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AE8-CD14-4C4C-B27E-7A6694C3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AB7CB-8064-4913-B5D1-6E657E5D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9B385-AEEA-488E-8818-4C094ED4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01A84-F31A-46A8-B9B3-0B362AEA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64F01-6C5A-4D8D-BC0E-AFF21623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540FF-8BC4-4B0A-A451-DA99B5F6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D98F7-1854-48CF-AD74-53416AC0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3AEDA-CC7D-4C3D-9196-872796A2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55118-717F-44C5-8630-A23EF6B1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035A1-750B-4923-8E7F-FA6D67D5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CF632-4141-4B04-AEC7-AEA831FE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4C1B-070A-46C0-B7E2-8844BEFF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7F3B0-2340-4F42-90E4-47D2A822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F28ED-D72A-42AB-A4B3-40F425D4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8251A-CB53-4C5E-99BD-62BDD453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446F1-F5C3-4B62-B023-93E0004C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602F2-AAC9-40B3-9E71-F0875602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22AD9-097B-4EDB-A834-5E61B7B9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4ED72-5226-4A98-8B2B-6B737A09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BEC89-B273-4786-890A-4ECB685B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13C0A-B897-4CF1-9719-B51C676B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66DE6-B805-4603-B9BA-43265FBB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8150-9A4C-48A1-95F1-7774103A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6AD01-B1E9-4973-96B6-81A8C7B4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06866-0E1E-4C6C-981A-92096E77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66395-DFCA-4AE7-989E-BF8EF3BC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86394-E41A-41CD-94A4-1097838E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819C2-BFA6-476C-A6AB-4E318B86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907BB-474D-4C78-8ECD-FB5B00A9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D9AFC-1F95-4908-AF4B-20DE71B6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C605A-FE13-47E8-BDC9-FDB1C157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53FD3-CA87-4981-99C2-5698568C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7D1E1-8CA2-405E-909C-93D345CF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7CD-D479-43EA-B6D3-01A34C6C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1A528-950D-4375-955F-B599C82E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41BFE-D933-44C9-85A9-0B8A0A98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C6AB7-49A2-4C4E-8CF6-D279FEEC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5458E-82E4-4C0A-B546-0848C097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B93D7-1809-432E-A1D7-7928D202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1E03B-E7E1-4BFB-9585-D5B5FF2D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8376A-7E5A-478B-8C9E-9F19161A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889EA-387D-4A9E-BACC-C30786FE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D5C04-2111-4D20-8FCF-24084770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7CC26-50EE-49A0-8846-95DB5AC2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F0E-A60D-4B5A-AAB2-8085BAD1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10046-8AB7-455A-AFA3-8CB040AC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DC208-65D2-4405-A326-B1262F96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D83D9-1F29-489E-8C77-A9D013F3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9F394-0D9E-4195-8C42-642B026F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0B092-0BEC-42D4-A51A-27EB22F5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0F091-D6B0-4C4C-8605-839BBBD7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D020C-AEA3-4700-99F7-CC0198C3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20B9A-1B19-45DC-8141-7E6351D1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0D8FA-7AE1-448C-9E7E-2A75CE0C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C5273-F72F-45D4-B3BD-2ABC6EBA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586-3911-4F13-93A6-D0D38817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C73C8-BAB5-41E7-A5E8-5B228624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7973C-464E-4273-A126-881B9705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02328-97D7-4AA3-BDE5-245790DE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61436-7D38-4B2D-BB09-273B26F7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2C09A-6806-4870-AC25-9CCAFFE0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CED12-E48A-4794-A55E-8FF12FEE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62714-B50D-48D7-A60A-9F46B057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E99BC-BABA-4873-8D96-93AA5878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891CE-18DD-4F18-AA62-8AAADE9B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E8141-FFAE-42FF-8BC9-432DFBD6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BE0-7ACB-4FFB-8FCE-0E09FCD5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97E08-5D56-49A3-97BC-A5196897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2EEEC-0FAA-4D87-A124-084772C6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DA99F-6061-476B-A0C8-493D8942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B0CC7-A317-4839-9BE8-3B21ACB1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9C0B7-B3D8-4795-83B5-92DC541F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F202B-FAF3-4048-9B07-D3FC8723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347B6-F891-4BA7-A145-82E6AE38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CE5F6-4480-4838-A91B-27C54532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01FF5-2B08-414B-A142-590DF952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B19DA-2C68-4AD6-9419-91B736A4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F152545-C974-406B-874A-F61DB657A1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9BAE589-D2FF-4FEF-82E8-E5F5F1969A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07BEAFA4-68BC-4960-AF1F-F95F02CC3D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60965500-A70C-4290-8E5E-704B9E72B5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32149657-0AAD-41CC-8AA5-A4A0F319B7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FDE8B94A-E8D3-4EF8-B88F-5083C72B6A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D4E14A3E-6A37-44AB-971B-035E151593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65280" y="3423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Demand and Supply: </a:t>
            </a:r>
            <a:br>
              <a:rPr sz="4800"/>
            </a:b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an Elaboratio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2976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3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eiling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d when present market price for a particular product is considered too high for many buy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roduct is felt to be a necess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rent contro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A7189CE2-90CD-4FD8-ABB4-20A991616D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eiling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ceilings cause shortage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F06B4DD2-45C6-4165-8BC5-116C0AA5A4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11" descr="Fig3_6.bmp"/>
          <p:cNvPicPr/>
          <p:nvPr/>
        </p:nvPicPr>
        <p:blipFill>
          <a:blip r:embed="rId1"/>
          <a:stretch/>
        </p:blipFill>
        <p:spPr>
          <a:xfrm>
            <a:off x="0" y="2003400"/>
            <a:ext cx="9144000" cy="434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llocating Shortag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arket (supply and demand)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 come, first served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ducers’ preferenc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tioning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4D66F951-3BF0-438A-ABB3-8415B49441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253880"/>
            <a:ext cx="82296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e government introduces a price ceiling that is 20 cents different from the present equilibrium price. Would the result be a surplus or a shortage? Of what quantit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f an illegal market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ere to develop,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would b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maximum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llegal marke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pric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7825A0FE-2A2E-4698-89BE-637C42BCEB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Picture 7" descr="SelfTest_milkGraph.bmp"/>
          <p:cNvPicPr/>
          <p:nvPr/>
        </p:nvPicPr>
        <p:blipFill>
          <a:blip r:embed="rId1"/>
          <a:stretch/>
        </p:blipFill>
        <p:spPr>
          <a:xfrm>
            <a:off x="3774960" y="2544840"/>
            <a:ext cx="4869000" cy="367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253880"/>
            <a:ext cx="82296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e government introduces a price ceiling that is 20 cents different from the present equilibrium price. Would the result be a surplus or a shortage? Of what quantity?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f an illegal market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ere to develop,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would b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maximum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llegal marke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pric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932040" y="272556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Price = 0.90;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Shortage of 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4BFA9618-24B2-47F9-8278-3A46C66AA5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7" descr="SelfTest_milkGraph.bmp"/>
          <p:cNvPicPr/>
          <p:nvPr/>
        </p:nvPicPr>
        <p:blipFill>
          <a:blip r:embed="rId1"/>
          <a:stretch/>
        </p:blipFill>
        <p:spPr>
          <a:xfrm>
            <a:off x="3774960" y="2544840"/>
            <a:ext cx="4869000" cy="3674880"/>
          </a:xfrm>
          <a:prstGeom prst="rect">
            <a:avLst/>
          </a:prstGeom>
          <a:ln w="0">
            <a:noFill/>
          </a:ln>
        </p:spPr>
      </p:pic>
      <p:sp>
        <p:nvSpPr>
          <p:cNvPr id="489" name="Straight Connector 12"/>
          <p:cNvSpPr/>
          <p:nvPr/>
        </p:nvSpPr>
        <p:spPr>
          <a:xfrm>
            <a:off x="4295880" y="4827600"/>
            <a:ext cx="3944880" cy="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51"/>
          <p:cNvSpPr/>
          <p:nvPr/>
        </p:nvSpPr>
        <p:spPr>
          <a:xfrm>
            <a:off x="2052720" y="540864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$1.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15"/>
          <p:cNvSpPr/>
          <p:nvPr/>
        </p:nvSpPr>
        <p:spPr>
          <a:xfrm flipH="1" flipV="1">
            <a:off x="6113520" y="3498840"/>
            <a:ext cx="14400" cy="224640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eft-Right Arrow 19"/>
          <p:cNvSpPr/>
          <p:nvPr/>
        </p:nvSpPr>
        <p:spPr>
          <a:xfrm>
            <a:off x="6156360" y="4943520"/>
            <a:ext cx="1774800" cy="372960"/>
          </a:xfrm>
          <a:prstGeom prst="leftRightArrow">
            <a:avLst>
              <a:gd name="adj1" fmla="val 50000"/>
              <a:gd name="adj2" fmla="val 498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d when present market price for a particular product is considered too low for produc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ften used in agricultural market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156FB462-98FD-4DAE-A784-3703170D63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floors cause surpluse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7FEE637E-73DB-47AA-B992-1D90C4F4F1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13" descr="Fig3_8.bmp"/>
          <p:cNvPicPr/>
          <p:nvPr/>
        </p:nvPicPr>
        <p:blipFill>
          <a:blip r:embed="rId1"/>
          <a:stretch/>
        </p:blipFill>
        <p:spPr>
          <a:xfrm>
            <a:off x="0" y="1951200"/>
            <a:ext cx="9144000" cy="431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nimum wage laws can cause unemployment 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2378AD44-1AAC-4001-A7F2-1EC70C5E17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12" descr="Fig3_10.bmp"/>
          <p:cNvPicPr/>
          <p:nvPr/>
        </p:nvPicPr>
        <p:blipFill>
          <a:blip r:embed="rId1"/>
          <a:stretch/>
        </p:blipFill>
        <p:spPr>
          <a:xfrm>
            <a:off x="0" y="195912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aling with Surplus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ore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vert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ll it abroad at a reduced price (dump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ate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stroy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FBB7DEE4-F93E-4F15-8124-A972813EB7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Quota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12400" y="1233000"/>
            <a:ext cx="8474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quota, or restricting output, can raise price without causing a surplu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03C51C61-EF91-4BA6-B44F-171A0C7663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12" descr="Fig3_9.bmp"/>
          <p:cNvPicPr/>
          <p:nvPr/>
        </p:nvPicPr>
        <p:blipFill>
          <a:blip r:embed="rId1"/>
          <a:stretch/>
        </p:blipFill>
        <p:spPr>
          <a:xfrm>
            <a:off x="0" y="2160720"/>
            <a:ext cx="9144000" cy="428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Elabora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2647440"/>
            <a:ext cx="838188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effects on equilibrium price and quantity of simultaneous changes in supply and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why markets do not always work well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price ceilings cause shortag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A7669EDF-2D24-4A55-B6C1-3D216DB1E8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7200" y="1254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n equilibrium, what is the total revenue received by producer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b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at government imposes a price floor of $4 per kilo. What quantity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ill be demanded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farmers produce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government bu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How much will i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ost to buy th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rplu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344BBB5B-46D5-4098-B9F7-C2FCE3E4F1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2"/>
          <p:cNvSpPr/>
          <p:nvPr/>
        </p:nvSpPr>
        <p:spPr>
          <a:xfrm>
            <a:off x="63360" y="-136440"/>
            <a:ext cx="827748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16" descr="SelfTest_CornGraph.bmp"/>
          <p:cNvPicPr/>
          <p:nvPr/>
        </p:nvPicPr>
        <p:blipFill>
          <a:blip r:embed="rId1"/>
          <a:stretch/>
        </p:blipFill>
        <p:spPr>
          <a:xfrm>
            <a:off x="4241880" y="2508120"/>
            <a:ext cx="4363920" cy="3754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457200" y="1254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n equilibrium, what is the total revenue received by producer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b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at government imposes a price floor of $4 per kilo. What quantity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ill be demanded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farmers produce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government bu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How much will i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ost to buy th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rplu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D68DDD1F-11A3-45D1-83EC-547C28E577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2"/>
          <p:cNvSpPr/>
          <p:nvPr/>
        </p:nvSpPr>
        <p:spPr>
          <a:xfrm>
            <a:off x="63360" y="-136440"/>
            <a:ext cx="827748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16" descr="SelfTest_CornGraph.bmp"/>
          <p:cNvPicPr/>
          <p:nvPr/>
        </p:nvPicPr>
        <p:blipFill>
          <a:blip r:embed="rId1"/>
          <a:stretch/>
        </p:blipFill>
        <p:spPr>
          <a:xfrm>
            <a:off x="4241880" y="2508120"/>
            <a:ext cx="4363920" cy="375444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1"/>
          <p:cNvSpPr/>
          <p:nvPr/>
        </p:nvSpPr>
        <p:spPr>
          <a:xfrm>
            <a:off x="2760840" y="1609560"/>
            <a:ext cx="46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TR = Q x P = 5 x 3.50 = $17.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1"/>
          <p:cNvSpPr/>
          <p:nvPr/>
        </p:nvSpPr>
        <p:spPr>
          <a:xfrm>
            <a:off x="903240" y="46641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Qd=4, Qs=6, buy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traight Connector 12"/>
          <p:cNvSpPr/>
          <p:nvPr/>
        </p:nvSpPr>
        <p:spPr>
          <a:xfrm>
            <a:off x="4730760" y="3274920"/>
            <a:ext cx="2849400" cy="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1"/>
          <p:cNvSpPr/>
          <p:nvPr/>
        </p:nvSpPr>
        <p:spPr>
          <a:xfrm>
            <a:off x="2322360" y="580536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2 x $4 = $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Vertical 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vertical demand curve suggests that price does not matter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me quantity is demanded no matter what the pri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me goods seen as necessities (eg, insulin) may have a perfectly inelastic (vertical) rang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ntually, quantity demanded decreases as income is insufficient to pay for the good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EF7D5924-D8A6-408C-B4E5-53DB721415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Upward Sloping Demand Curve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12400" y="1265400"/>
            <a:ext cx="84740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ward sloping demand curves may be true for some individuals over a limited range of pric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0387DCD3-8B30-4BB6-84AB-31CEFE2F18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12" descr="Fig3_12.bmp"/>
          <p:cNvPicPr/>
          <p:nvPr/>
        </p:nvPicPr>
        <p:blipFill>
          <a:blip r:embed="rId1"/>
          <a:stretch/>
        </p:blipFill>
        <p:spPr>
          <a:xfrm>
            <a:off x="0" y="2155680"/>
            <a:ext cx="9144000" cy="42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Demand for Water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12400" y="1265400"/>
            <a:ext cx="84740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effect of a change in supply depends very much on the shape of the demand curv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2A3751C6-BC5C-4DC2-934D-6E92FED523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11" descr="Fig3_14.bmp"/>
          <p:cNvPicPr/>
          <p:nvPr/>
        </p:nvPicPr>
        <p:blipFill>
          <a:blip r:embed="rId1"/>
          <a:stretch/>
        </p:blipFill>
        <p:spPr>
          <a:xfrm>
            <a:off x="0" y="2119320"/>
            <a:ext cx="9144000" cy="417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Key Concepts to Remember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2519280"/>
            <a:ext cx="83818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effects on equilibrium price and quantity of simultaneous changes in supply and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markets don’t always work well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price ceilings create shortag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price floors create surplu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demand curves might be vertical or upward slop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SUMMARY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B5C1FDDE-0E21-4AFD-B0A6-8006D6F19F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Elabora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2647440"/>
            <a:ext cx="838188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price floors cause surplu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Ask some interesting “what if ” questions concerning the shape of demand and supply curv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43CC0BC4-62B0-49F3-BC99-E49C788993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Determinants of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upply and Demand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9B1A1AFE-C541-46F1-AA63-4977416CB3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15960" y="2297160"/>
          <a:ext cx="7688160" cy="3238560"/>
        </p:xfrm>
        <a:graphic>
          <a:graphicData uri="http://schemas.openxmlformats.org/drawingml/2006/table">
            <a:tbl>
              <a:tblPr/>
              <a:tblGrid>
                <a:gridCol w="3498840"/>
                <a:gridCol w="509760"/>
                <a:gridCol w="3679560"/>
              </a:tblGrid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ants of 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ants of Supp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</a:tr>
              <a:tr h="40464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mer prefer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productive re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mer inc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iness tax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50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related 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ctations of future prices, incomes, or avail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substitutes in pro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: its size, income distribution, and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ture expectations of suppl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21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ppl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imultaneous Changes in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upply and Demand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7334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rease in both demand and supply leads to an increase in equilibrium quantity; price may rise or fa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09872290-F00F-4346-BEF4-7508B72FC8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Picture 1" descr="C:\Users\aholowinsky\Documents\McGrawHill\Sayre Micro Image Bank\Fig3_3.bmp"/>
          <p:cNvPicPr/>
          <p:nvPr/>
        </p:nvPicPr>
        <p:blipFill>
          <a:blip r:embed="rId1"/>
          <a:stretch/>
        </p:blipFill>
        <p:spPr>
          <a:xfrm>
            <a:off x="0" y="2719440"/>
            <a:ext cx="9144000" cy="356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351080"/>
            <a:ext cx="822960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Kalinga"/>
              </a:rPr>
              <a:t>Explain what effect the changes will have on equilibrium price and quantity in the following markets: 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0485CFC7-2453-41F2-969F-9401998C99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468360" y="2039760"/>
          <a:ext cx="8175600" cy="4480200"/>
        </p:xfrm>
        <a:graphic>
          <a:graphicData uri="http://schemas.openxmlformats.org/drawingml/2006/table">
            <a:tbl>
              <a:tblPr/>
              <a:tblGrid>
                <a:gridCol w="1816200"/>
                <a:gridCol w="6359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-c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e mothers with small children are returning to the labour force; at the same time, government decides to introduce subsidies for day-care operato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ariju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vernment severely increases the penalties for both buying and selling marijuan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mpact dis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new processing method significantly reduces the costs of producing CDs; at the same time, more consumers download music directly onto their compute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c vege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getarianism increases as a result of medical reports extolling its health benefits; at the same time, tighter regulations on the definition of organically grown products are introduc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6f8a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477720" y="2295360"/>
          <a:ext cx="8177400" cy="3338640"/>
        </p:xfrm>
        <a:graphic>
          <a:graphicData uri="http://schemas.openxmlformats.org/drawingml/2006/table">
            <a:tbl>
              <a:tblPr/>
              <a:tblGrid>
                <a:gridCol w="1817640"/>
                <a:gridCol w="6359760"/>
              </a:tblGrid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8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-c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ariju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mpact dis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c vege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477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Kalinga"/>
              </a:rPr>
              <a:t>Explain what effect the changes will have on equilibrium price and quantity in the following markets: 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Text Box 51"/>
          <p:cNvSpPr/>
          <p:nvPr/>
        </p:nvSpPr>
        <p:spPr>
          <a:xfrm>
            <a:off x="2622600" y="2682720"/>
            <a:ext cx="61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oth demand and supply increase so quantity traded increases but price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5D7F235E-7D5C-4C36-A3A1-AAED35BF63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51"/>
          <p:cNvSpPr/>
          <p:nvPr/>
        </p:nvSpPr>
        <p:spPr>
          <a:xfrm>
            <a:off x="2658960" y="3378240"/>
            <a:ext cx="613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oth demand and supply decrease so price is indeterminate while quantity traded decre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1"/>
          <p:cNvSpPr/>
          <p:nvPr/>
        </p:nvSpPr>
        <p:spPr>
          <a:xfrm>
            <a:off x="2647800" y="4079880"/>
            <a:ext cx="620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upply increases while demand decreases so price decreases while quantity traded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51"/>
          <p:cNvSpPr/>
          <p:nvPr/>
        </p:nvSpPr>
        <p:spPr>
          <a:xfrm>
            <a:off x="2668680" y="4838760"/>
            <a:ext cx="621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Demand increases and supply decreases so that price increases while quantity traded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How Well Do Markets Work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2400" y="1733400"/>
            <a:ext cx="847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oblems with markets: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s do not always adjust as quickly as we would lik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s do not always produce equitable resul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etitive markets may not exist for some goods or serv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781B8413-2948-4D54-9B8A-AD6B100283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ontrol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12400" y="1434600"/>
            <a:ext cx="8474040" cy="48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Control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vernment regulations to set either a maximum or minimum price for a product </a:t>
            </a: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Ceiling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overnment regulation stipulating the maximum price that can be charged for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935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Floor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overnment regulation stipulating the minimum price that can be charged for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41491D4B-BBBC-4037-9849-EFA63062C6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5:56Z</dcterms:modified>
  <cp:revision>202</cp:revision>
  <dc:subject/>
  <dc:title>Slide 1</dc:title>
</cp:coreProperties>
</file>